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248-69B0-49CD-8C92-9AFD1A54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BD9-EB3D-45B3-99EF-21B0AAEE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BD7-6FE9-4317-916A-F34ABFD3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5D9-85BB-428E-8096-BD88F1C7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1AD-6F81-4628-A0CF-C3D6090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EB9-E2C5-496F-865F-F0DFDCF3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1F4-C16A-46CB-BCBB-424065F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B2A-5B7A-4EB7-9BC9-73A24FF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BCA-8CF1-41F3-BA51-D4B4E3A0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22C-076C-4795-ACBB-37BE686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811-60F0-423C-8C79-AC5E121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B35-0824-439B-9AE2-960AAEA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E49-65BB-493D-9DAD-8202AB27F5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320" y="1295280"/>
            <a:ext cx="801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lem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umulative Incid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7:25Z</dcterms:modified>
  <cp:revision>177</cp:revision>
  <dc:subject/>
  <dc:title>Slide 1</dc:title>
</cp:coreProperties>
</file>